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184D-43D9-44DB-A33E-D8047B364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4F7D-EB19-4735-A9E0-57150A7F8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3895-3EF7-4162-8FAF-158B6C88A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0E3E-CDF7-44C0-A91B-6DCC99D42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C11C-D9AF-43A7-AB7E-96E0EFA1C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6A1B-F21B-4557-AB9D-9D4F63CB5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C306-C6CC-43EB-B469-733F92E94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9286-20BB-4393-A449-B38D3C289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5DF8-0D19-4667-A932-E5C9CE67F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69EF-59ED-49DD-A1E9-AC2028E5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CC3C-9D04-427B-BF00-BF7BEBEB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3225-B3ED-42A1-A8D2-A3788472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2E908-CC4A-4414-8B4D-2F44F236C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on 2.1  Properties of Re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13372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tative Properties of Addition and Multi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32004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iative Properties of Addition and Multi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464832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ty Properties of Addition and Multi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59092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Arial"/>
              </a:rPr>
              <a:t>A + B = B +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57600" y="26668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Arial"/>
              </a:rPr>
              <a:t>AB = 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358128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Arial"/>
              </a:rPr>
              <a:t>A + (B + C) = (A + B) +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9880" y="36576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Arial"/>
              </a:rPr>
              <a:t>A(BC) = (AB)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502920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Arial"/>
              </a:rPr>
              <a:t>A + 0 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510552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Arial"/>
              </a:rPr>
              <a:t>A * 1 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1219320"/>
            <a:ext cx="5410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ntifying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2: Using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137160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ntifying Propert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Name each property show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04920" y="1905120"/>
            <a:ext cx="3352680" cy="1473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0" y="3581280"/>
            <a:ext cx="8839080" cy="1217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0" y="5257800"/>
            <a:ext cx="8686800" cy="895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962520" y="190512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Arial"/>
              </a:rPr>
              <a:t>Commutative Property of Ad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24382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Arial"/>
              </a:rPr>
              <a:t>Associative Property of Multi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62520" y="29718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Arial"/>
              </a:rPr>
              <a:t>Identity property of multi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81080" y="4724280"/>
            <a:ext cx="35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Arial"/>
              </a:rPr>
              <a:t>$2.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76520" y="63244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Arial"/>
              </a:rPr>
              <a:t>1,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632448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y questions from objective 1 or 2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369720"/>
            <a:ext cx="9144000" cy="62978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38080" y="16765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Arial"/>
              </a:rPr>
              <a:t>$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39625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Arial"/>
              </a:rPr>
              <a:t>Comm. Prop. Of Ad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38862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Arial"/>
              </a:rPr>
              <a:t>Identity prop. of multi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934320" y="3809880"/>
            <a:ext cx="167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Arial"/>
              </a:rPr>
              <a:t>Associative Prop. Of Multi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62720" y="586728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Arial"/>
              </a:rPr>
              <a:t>2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os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295280" y="1828800"/>
            <a:ext cx="64008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the difference between the  Commutative and Associative properties. Provide an example of each description. Use your own words to describe an Ide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*Remember to date and highlight this entry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51055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omewor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4T16:17:16Z</dcterms:created>
  <dc:creator>BRSD</dc:creator>
  <dc:description/>
  <dc:language>en-US</dc:language>
  <cp:lastModifiedBy>grahams</cp:lastModifiedBy>
  <dcterms:modified xsi:type="dcterms:W3CDTF">2011-10-24T13:28:10Z</dcterms:modified>
  <cp:revision>19</cp:revision>
  <dc:subject/>
  <dc:title>Slide 1</dc:title>
</cp:coreProperties>
</file>